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826-F1C0-43FE-8BF5-293E98EF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F5C-59DD-4B8A-9607-8CD136B5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5E0-A358-4BC5-90CB-6151DD5C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AAB-5FB2-4879-9432-45F19E10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776-C36C-494B-9CC4-5E09FC6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FDF-F1D3-43F8-B619-B8DAC517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B2C-B816-4B3A-9148-660888DC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CE1-8C1B-441B-BEDF-B883225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088-CB18-491B-B3C8-F4BD447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C47-1705-45B9-99F5-E78A51F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179-EBAA-4002-9EE7-E81D3962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299-D1E4-4419-9B31-76E2D99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000-8743-429E-8D4B-34859386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Févr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8 au 13/02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ire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3623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2819520"/>
            <a:ext cx="304920" cy="304560"/>
          </a:xfrm>
          <a:prstGeom prst="smileyFace">
            <a:avLst>
              <a:gd name="adj" fmla="val 1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6019920"/>
            <a:ext cx="304920" cy="30456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1880" y="64771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514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32767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 </cp:lastModifiedBy>
  <dcterms:modified xsi:type="dcterms:W3CDTF">2009-05-05T08:49:38Z</dcterms:modified>
  <cp:revision>7</cp:revision>
  <dc:subject/>
  <dc:title>Présentation PowerPoint</dc:title>
</cp:coreProperties>
</file>